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A1C-187C-4DA7-9387-D522C52F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981-49A8-4967-976C-9A65FB9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D23-3440-4FCE-872D-3D858489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AF0-C27E-464C-AC0D-1263973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BD5-42B4-49E2-B079-27F65AD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F80-1C3F-40A1-8AC8-F20DE6AF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6A3-F4D4-4CE9-9088-930F5B4F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144-28C3-452C-ABD6-AC3FEB78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4B6-16D6-40A9-AC62-E21970E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CB8-1700-4F68-9A7D-BF4086A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EEF-AD2F-4F8F-B443-D9DD9A9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2C8-2869-4CE3-B197-2A0A1E6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9B9B1-C94C-49AA-B0B8-CA45981B3E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1268280"/>
            <a:ext cx="180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268280"/>
            <a:ext cx="144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55736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917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2276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6607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1440000" cy="530280"/>
          </a:xfrm>
          <a:prstGeom prst="wedgeRoundRectCallout">
            <a:avLst>
              <a:gd name="adj1" fmla="val 80638"/>
              <a:gd name="adj2" fmla="val 82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rmation of 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invi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89744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5120" y="52578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5120" y="5616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60008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180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ublic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508640"/>
            <a:ext cx="14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579920"/>
            <a:ext cx="1836720" cy="361800"/>
          </a:xfrm>
          <a:prstGeom prst="wedgeRoundRectCallout">
            <a:avLst>
              <a:gd name="adj1" fmla="val -69541"/>
              <a:gd name="adj2" fmla="val 42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300640"/>
            <a:ext cx="1584360" cy="603360"/>
          </a:xfrm>
          <a:prstGeom prst="wedgeRoundRectCallout">
            <a:avLst>
              <a:gd name="adj1" fmla="val 68421"/>
              <a:gd name="adj2" fmla="val 18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2640"/>
            <a:ext cx="180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3013200"/>
            <a:ext cx="25891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97480" y="337356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497480" y="577692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7480" y="6161040"/>
            <a:ext cx="25956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5605560"/>
            <a:ext cx="1440000" cy="585720"/>
          </a:xfrm>
          <a:prstGeom prst="wedgeRoundRectCallout">
            <a:avLst>
              <a:gd name="adj1" fmla="val 75342"/>
              <a:gd name="adj2" fmla="val -19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10492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60400" y="166356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00120"/>
            <a:ext cx="1296720" cy="515880"/>
          </a:xfrm>
          <a:prstGeom prst="wedgeRoundRectCallout">
            <a:avLst>
              <a:gd name="adj1" fmla="val 65763"/>
              <a:gd name="adj2" fmla="val 6519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ll registered public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sending public keys until PK_OK is recei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505764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0400" y="461628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887640"/>
            <a:ext cx="1150920" cy="792360"/>
          </a:xfrm>
          <a:prstGeom prst="wedgeRoundRectCallout">
            <a:avLst>
              <a:gd name="adj1" fmla="val -70134"/>
              <a:gd name="adj2" fmla="val 4231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ing requ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52840"/>
            <a:ext cx="1296720" cy="587520"/>
          </a:xfrm>
          <a:prstGeom prst="wedgeRoundRectCallout">
            <a:avLst>
              <a:gd name="adj1" fmla="val 65763"/>
              <a:gd name="adj2" fmla="val 5122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52:57Z</dcterms:modified>
  <cp:revision>368</cp:revision>
  <dc:subject/>
  <dc:title>DDEのしくみ</dc:title>
</cp:coreProperties>
</file>