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19B-2AAF-4D57-A40D-64448FF4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2D8-BFF0-44E1-BFAC-9D0EBB64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B08-F33C-47C5-AD98-663FABD4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964-06DE-46F6-8350-9F13E634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CDE-6E08-47AB-88B6-9FE489A2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FDC-2B75-463C-8FD3-CDEED420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999-14A1-43FA-8A00-A7CA2FC6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D9E-AC2D-45A0-9E51-B277FA1A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EAA-DEB9-42F5-BD67-DC682F40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234-E369-4EBA-8DB2-255FA443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2D7-FBC7-401F-8A7C-30D50313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1B2-1152-46BC-A74A-6A2C975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448A8-75C4-4A4E-9C9B-0EE64E70D1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stablishing SSH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04640"/>
            <a:ext cx="1440" cy="6264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125360"/>
            <a:ext cx="504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940360" y="549360"/>
          <a:ext cx="2666880" cy="1358280"/>
        </p:xfrm>
        <a:graphic>
          <a:graphicData uri="http://schemas.openxmlformats.org/drawingml/2006/table">
            <a:tbl>
              <a:tblPr/>
              <a:tblGrid>
                <a:gridCol w="1224720"/>
                <a:gridCol w="1442160"/>
              </a:tblGrid>
              <a:tr h="27144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k 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k Dest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27280" y="692280"/>
            <a:ext cx="757440" cy="576000"/>
          </a:xfrm>
          <a:prstGeom prst="wedgeRoundRectCallout">
            <a:avLst>
              <a:gd name="adj1" fmla="val -74532"/>
              <a:gd name="adj2" fmla="val 2763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ocket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68280"/>
            <a:ext cx="180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133720"/>
            <a:ext cx="1800" cy="3585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1916280"/>
            <a:ext cx="505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 to establishing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2708280"/>
            <a:ext cx="505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2303640"/>
            <a:ext cx="2160720" cy="693720"/>
          </a:xfrm>
          <a:prstGeom prst="wedgeRoundRectCallout">
            <a:avLst>
              <a:gd name="adj1" fmla="val -55495"/>
              <a:gd name="adj2" fmla="val 547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s to server. If successful, FD_CONNECT message is sent to 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57336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4149720"/>
            <a:ext cx="50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3141720"/>
            <a:ext cx="1549440" cy="574560"/>
          </a:xfrm>
          <a:prstGeom prst="wedgeRoundRectCallout">
            <a:avLst>
              <a:gd name="adj1" fmla="val -95314"/>
              <a:gd name="adj2" fmla="val 8806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er FD_READ | FD_OOB | FD_CLO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4149720"/>
            <a:ext cx="431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414972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user authentication dialo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94172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66100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6237360"/>
            <a:ext cx="50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165720"/>
            <a:ext cx="431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4581360"/>
            <a:ext cx="1872000" cy="746280"/>
          </a:xfrm>
          <a:prstGeom prst="wedgeRoundRectCallout">
            <a:avLst>
              <a:gd name="adj1" fmla="val -80009"/>
              <a:gd name="adj2" fmla="val -203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ning of communication ”Protocol Version Exchange” is sent by the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6165720"/>
            <a:ext cx="431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5832360"/>
            <a:ext cx="2089440" cy="863640"/>
          </a:xfrm>
          <a:prstGeom prst="wedgeRoundRectCallout">
            <a:avLst>
              <a:gd name="adj1" fmla="val -61851"/>
              <a:gd name="adj2" fmla="val -1347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validating the server version information, client(TTSSH) version information is sent to the server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5:35:47Z</dcterms:modified>
  <cp:revision>242</cp:revision>
  <dc:subject/>
  <dc:title>DDEのしくみ</dc:title>
</cp:coreProperties>
</file>