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455-DDE2-4853-90D5-6B407A5C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93D-4C10-459D-B362-29D232F6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671-F1A3-4AF6-82DB-7FC3085B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256-5544-4E99-B2BA-000881E1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AC8-6988-4574-97B7-ABE4BA1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B89-AD6C-43B3-9734-CDFACA06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F79-504A-453A-9BE3-B4F193D5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3E5-2CB4-495F-9772-428D3E74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D90-2D50-498D-B8DD-680FE317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576-B81C-41F9-8354-83D41A08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735-AEC8-4910-8DB4-A482DE71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94D-0CC1-4EEF-919F-9E3E3E44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C862-DB8A-4218-98AE-370A3BF5B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3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4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61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62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3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68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6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7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パディングサイ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73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5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6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8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79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0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1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2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5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86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87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8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9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0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1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2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3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4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5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96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7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4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3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Rectangle 38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44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7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8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0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3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4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5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7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 negeta</cp:lastModifiedBy>
  <dcterms:modified xsi:type="dcterms:W3CDTF">2018-01-27T04:07:34Z</dcterms:modified>
  <cp:revision>277</cp:revision>
  <dc:subject/>
  <dc:title>DDEのしくみ</dc:title>
</cp:coreProperties>
</file>