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C2D-B464-429E-A2E9-C9067663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0B2-5998-493B-B000-2F9ABE85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3AF-1916-486E-9C15-E35836A6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30C-AF73-4F9B-82FF-43963CD5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6C3-4AC0-42F0-8585-7F2CEDA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B10-4413-4FDD-9EA0-B73E2CD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E19-1ED8-4551-A45A-03FD315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CB9-35C7-4300-85F8-B47EFF3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3EE-CE6B-42C5-BCAD-1BFB86F7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FEA-0E46-4970-B99F-233A72A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8F3-F63D-43F2-A371-62BF13A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6D7-2835-4EAC-B991-BBAC0FA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3FDAD-2C3F-4DCD-935B-E57A464BEE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Flow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052640"/>
            <a:ext cx="1440" cy="424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5480" y="1628640"/>
            <a:ext cx="187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1480" y="1341360"/>
            <a:ext cx="14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2133720"/>
            <a:ext cx="502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2421000"/>
            <a:ext cx="1584360" cy="1827000"/>
          </a:xfrm>
          <a:prstGeom prst="wedgeRoundRectCallout">
            <a:avLst>
              <a:gd name="adj1" fmla="val 59611"/>
              <a:gd name="adj2" fmla="val -65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log col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d data is stored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E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uffer is full, the old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will be overwritte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052640"/>
            <a:ext cx="180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91628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28464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32360" y="1912680"/>
            <a:ext cx="1440" cy="1374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3780000"/>
            <a:ext cx="1620720" cy="1116000"/>
          </a:xfrm>
          <a:prstGeom prst="wedgeRoundRectCallout">
            <a:avLst>
              <a:gd name="adj1" fmla="val -11152"/>
              <a:gd name="adj2" fmla="val -8124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 Loop contai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 sent to DDE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2276640"/>
            <a:ext cx="72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r sav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4000" y="5661000"/>
            <a:ext cx="4248000" cy="1035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acro comm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tsyn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used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mmun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era Term and Macro applications is synchroniz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ig amounts of data are sent by remote host, portion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may be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50:52Z</dcterms:modified>
  <cp:revision>186</cp:revision>
  <dc:subject/>
  <dc:title>DDEのしくみ</dc:title>
</cp:coreProperties>
</file>