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3600" cy="124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F4B0-0F21-4AF7-8003-81E14A97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7749-E0AC-4DAD-B8F6-0C82A595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FE7E-1105-4774-A548-46CF9474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C30C-02FE-4032-9EBE-7D6E076D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1020-30CE-4DBC-B656-E3D035A5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F971-6F62-419F-BC99-D8E4EDBA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359B-518E-4E40-8A1F-D8AE6D06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2C46-277D-4EE7-AA55-83E2FA7D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6E69-A866-47E2-AB49-ABA022AF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35DB-1E4D-4DB2-A10A-420ECB8E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B2EE-4582-4E58-B046-1C3A8F89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DBCC-B5B3-47F9-AA86-BEAFF59C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67221-A88A-4687-84DA-51B9A37704D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763560"/>
            <a:ext cx="144792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763560"/>
            <a:ext cx="12952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295280"/>
            <a:ext cx="12952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828800"/>
            <a:ext cx="12952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363760"/>
            <a:ext cx="12952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2895480"/>
            <a:ext cx="12952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990720"/>
            <a:ext cx="60948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976040" y="1523880"/>
            <a:ext cx="31428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976040" y="2057400"/>
            <a:ext cx="31428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976040" y="2590920"/>
            <a:ext cx="31428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990720"/>
            <a:ext cx="1800" cy="2133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976040" y="3124080"/>
            <a:ext cx="31428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609480"/>
            <a:ext cx="3657600" cy="2895840"/>
          </a:xfrm>
          <a:prstGeom prst="rect">
            <a:avLst/>
          </a:prstGeom>
          <a:noFill/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76356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/>
          <p:nvPr/>
        </p:nvCxnSpPr>
        <p:spPr>
          <a:xfrm>
            <a:off x="3733920" y="895320"/>
            <a:ext cx="2134080" cy="21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62" name=""/>
          <p:cNvCxnSpPr/>
          <p:nvPr/>
        </p:nvCxnSpPr>
        <p:spPr>
          <a:xfrm>
            <a:off x="3733920" y="1066320"/>
            <a:ext cx="213408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grpSp>
        <p:nvGrpSpPr>
          <p:cNvPr id="63" name=""/>
          <p:cNvGrpSpPr/>
          <p:nvPr/>
        </p:nvGrpSpPr>
        <p:grpSpPr>
          <a:xfrm>
            <a:off x="3962520" y="1170000"/>
            <a:ext cx="1823760" cy="681120"/>
            <a:chOff x="3962520" y="1170000"/>
            <a:chExt cx="1823760" cy="681120"/>
          </a:xfrm>
        </p:grpSpPr>
        <p:sp>
          <p:nvSpPr>
            <p:cNvPr id="64" name=""/>
            <p:cNvSpPr/>
            <p:nvPr/>
          </p:nvSpPr>
          <p:spPr>
            <a:xfrm flipV="1">
              <a:off x="3962520" y="1169640"/>
              <a:ext cx="1747800" cy="681120"/>
            </a:xfrm>
            <a:custGeom>
              <a:avLst/>
              <a:gdLst/>
              <a:ahLst/>
              <a:rect l="l" t="t" r="r" b="b"/>
              <a:pathLst>
                <a:path w="6912" h="5806">
                  <a:moveTo>
                    <a:pt x="0" y="-1022"/>
                  </a:moveTo>
                  <a:lnTo>
                    <a:pt x="-1022" y="-1022"/>
                  </a:lnTo>
                  <a:lnTo>
                    <a:pt x="180" y="90"/>
                  </a:lnTo>
                  <a:lnTo>
                    <a:pt x="2840" y="0"/>
                  </a:lnTo>
                  <a:lnTo>
                    <a:pt x="5698" y="-2879"/>
                  </a:lnTo>
                  <a:lnTo>
                    <a:pt x="4057" y="0"/>
                  </a:lnTo>
                  <a:lnTo>
                    <a:pt x="5890" y="0"/>
                  </a:lnTo>
                  <a:lnTo>
                    <a:pt x="-1022" y="-1022"/>
                  </a:lnTo>
                  <a:lnTo>
                    <a:pt x="270" y="90"/>
                  </a:lnTo>
                  <a:lnTo>
                    <a:pt x="4868" y="318"/>
                  </a:lnTo>
                  <a:lnTo>
                    <a:pt x="4868" y="318"/>
                  </a:lnTo>
                  <a:lnTo>
                    <a:pt x="4868" y="794"/>
                  </a:lnTo>
                  <a:lnTo>
                    <a:pt x="4868" y="2927"/>
                  </a:lnTo>
                  <a:lnTo>
                    <a:pt x="-1022" y="-1022"/>
                  </a:lnTo>
                  <a:lnTo>
                    <a:pt x="1" y="90"/>
                  </a:lnTo>
                  <a:lnTo>
                    <a:pt x="4057" y="1905"/>
                  </a:lnTo>
                  <a:lnTo>
                    <a:pt x="2840" y="1905"/>
                  </a:lnTo>
                  <a:lnTo>
                    <a:pt x="2840" y="1905"/>
                  </a:lnTo>
                  <a:lnTo>
                    <a:pt x="-1022" y="1905"/>
                  </a:lnTo>
                  <a:lnTo>
                    <a:pt x="-1022" y="-1022"/>
                  </a:lnTo>
                  <a:close/>
                </a:path>
              </a:pathLst>
            </a:custGeom>
            <a:noFill/>
            <a:ln w="12600">
              <a:solidFill>
                <a:srgbClr val="3a5f8b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38480" y="1244520"/>
              <a:ext cx="174780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DE communication  between proce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5334120" y="274320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>
            <a:off x="3733560" y="2876040"/>
            <a:ext cx="16009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68" name=""/>
          <p:cNvCxnSpPr/>
          <p:nvPr/>
        </p:nvCxnSpPr>
        <p:spPr>
          <a:xfrm>
            <a:off x="3733560" y="3049560"/>
            <a:ext cx="1600920" cy="21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</p:cxnSp>
      <p:grpSp>
        <p:nvGrpSpPr>
          <p:cNvPr id="69" name=""/>
          <p:cNvGrpSpPr/>
          <p:nvPr/>
        </p:nvGrpSpPr>
        <p:grpSpPr>
          <a:xfrm>
            <a:off x="5715000" y="2005920"/>
            <a:ext cx="1424160" cy="647640"/>
            <a:chOff x="5715000" y="2005920"/>
            <a:chExt cx="1424160" cy="647640"/>
          </a:xfrm>
        </p:grpSpPr>
        <p:sp>
          <p:nvSpPr>
            <p:cNvPr id="70" name=""/>
            <p:cNvSpPr/>
            <p:nvPr/>
          </p:nvSpPr>
          <p:spPr>
            <a:xfrm flipH="1" flipV="1" rot="10800000">
              <a:off x="5715000" y="2005560"/>
              <a:ext cx="1366560" cy="647640"/>
            </a:xfrm>
            <a:custGeom>
              <a:avLst/>
              <a:gdLst/>
              <a:ahLst/>
              <a:rect l="l" t="t" r="r" b="b"/>
              <a:pathLst>
                <a:path w="5754" h="5523">
                  <a:moveTo>
                    <a:pt x="0" y="-972"/>
                  </a:moveTo>
                  <a:lnTo>
                    <a:pt x="-972" y="-972"/>
                  </a:lnTo>
                  <a:lnTo>
                    <a:pt x="180" y="90"/>
                  </a:lnTo>
                  <a:lnTo>
                    <a:pt x="2223" y="0"/>
                  </a:lnTo>
                  <a:lnTo>
                    <a:pt x="4460" y="-2739"/>
                  </a:lnTo>
                  <a:lnTo>
                    <a:pt x="3175" y="0"/>
                  </a:lnTo>
                  <a:lnTo>
                    <a:pt x="4782" y="0"/>
                  </a:lnTo>
                  <a:lnTo>
                    <a:pt x="-972" y="-972"/>
                  </a:lnTo>
                  <a:lnTo>
                    <a:pt x="270" y="90"/>
                  </a:lnTo>
                  <a:lnTo>
                    <a:pt x="3810" y="302"/>
                  </a:lnTo>
                  <a:lnTo>
                    <a:pt x="3810" y="302"/>
                  </a:lnTo>
                  <a:lnTo>
                    <a:pt x="3810" y="755"/>
                  </a:lnTo>
                  <a:lnTo>
                    <a:pt x="3810" y="2784"/>
                  </a:lnTo>
                  <a:lnTo>
                    <a:pt x="-972" y="-972"/>
                  </a:lnTo>
                  <a:lnTo>
                    <a:pt x="1" y="90"/>
                  </a:lnTo>
                  <a:lnTo>
                    <a:pt x="3175" y="1812"/>
                  </a:lnTo>
                  <a:lnTo>
                    <a:pt x="2223" y="1812"/>
                  </a:lnTo>
                  <a:lnTo>
                    <a:pt x="2223" y="1812"/>
                  </a:lnTo>
                  <a:lnTo>
                    <a:pt x="-972" y="1812"/>
                  </a:lnTo>
                  <a:lnTo>
                    <a:pt x="-972" y="-972"/>
                  </a:lnTo>
                  <a:close/>
                </a:path>
              </a:pathLst>
            </a:custGeom>
            <a:noFill/>
            <a:ln w="12600">
              <a:solidFill>
                <a:srgbClr val="3a5f8b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94200" y="2054160"/>
              <a:ext cx="134496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istens for local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ort 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733920" y="2378160"/>
            <a:ext cx="160020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cal TCP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n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0120" y="2592360"/>
            <a:ext cx="1371600" cy="76212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gw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/>
          <p:nvPr/>
        </p:nvCxnSpPr>
        <p:spPr>
          <a:xfrm>
            <a:off x="7162920" y="2971800"/>
            <a:ext cx="457920" cy="21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334120" y="350676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/>
          <p:nvPr/>
        </p:nvCxnSpPr>
        <p:spPr>
          <a:xfrm flipV="1">
            <a:off x="6248520" y="3199680"/>
            <a:ext cx="2160" cy="30564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214920" y="2135160"/>
            <a:ext cx="1621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Tera Term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4343400"/>
            <a:ext cx="106704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4343400"/>
            <a:ext cx="129564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4343400"/>
            <a:ext cx="144792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752120" y="3585960"/>
            <a:ext cx="381240" cy="685800"/>
          </a:xfrm>
          <a:custGeom>
            <a:avLst/>
            <a:gdLst/>
            <a:ahLst/>
            <a:rect l="l" t="t" r="r" b="b"/>
            <a:pathLst>
              <a:path w="50574" h="1905">
                <a:moveTo>
                  <a:pt x="0" y="202"/>
                </a:moveTo>
                <a:lnTo>
                  <a:pt x="25816" y="202"/>
                </a:lnTo>
                <a:lnTo>
                  <a:pt x="25816" y="0"/>
                </a:lnTo>
                <a:lnTo>
                  <a:pt x="-24758" y="0"/>
                </a:lnTo>
                <a:lnTo>
                  <a:pt x="-24758" y="202"/>
                </a:lnTo>
                <a:lnTo>
                  <a:pt x="1058" y="202"/>
                </a:lnTo>
                <a:lnTo>
                  <a:pt x="529" y="190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490680" y="3585960"/>
            <a:ext cx="380880" cy="685800"/>
          </a:xfrm>
          <a:custGeom>
            <a:avLst/>
            <a:gdLst/>
            <a:ahLst/>
            <a:rect l="l" t="t" r="r" b="b"/>
            <a:pathLst>
              <a:path w="50574" h="1905">
                <a:moveTo>
                  <a:pt x="0" y="202"/>
                </a:moveTo>
                <a:lnTo>
                  <a:pt x="25816" y="202"/>
                </a:lnTo>
                <a:lnTo>
                  <a:pt x="25816" y="0"/>
                </a:lnTo>
                <a:lnTo>
                  <a:pt x="-24758" y="0"/>
                </a:lnTo>
                <a:lnTo>
                  <a:pt x="-24758" y="202"/>
                </a:lnTo>
                <a:lnTo>
                  <a:pt x="1058" y="202"/>
                </a:lnTo>
                <a:lnTo>
                  <a:pt x="529" y="190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3200400" y="3585960"/>
            <a:ext cx="380880" cy="685800"/>
          </a:xfrm>
          <a:custGeom>
            <a:avLst/>
            <a:gdLst/>
            <a:ahLst/>
            <a:rect l="l" t="t" r="r" b="b"/>
            <a:pathLst>
              <a:path w="50574" h="1905">
                <a:moveTo>
                  <a:pt x="0" y="202"/>
                </a:moveTo>
                <a:lnTo>
                  <a:pt x="25816" y="202"/>
                </a:lnTo>
                <a:lnTo>
                  <a:pt x="25816" y="0"/>
                </a:lnTo>
                <a:lnTo>
                  <a:pt x="-24758" y="0"/>
                </a:lnTo>
                <a:lnTo>
                  <a:pt x="-24758" y="202"/>
                </a:lnTo>
                <a:lnTo>
                  <a:pt x="1058" y="202"/>
                </a:lnTo>
                <a:lnTo>
                  <a:pt x="529" y="190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541008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541008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434340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617220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4343400"/>
            <a:ext cx="15238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4952880"/>
            <a:ext cx="15238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MeTTv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15200" y="5564160"/>
            <a:ext cx="15238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MeTTi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518148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roWizard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15200" y="6172200"/>
            <a:ext cx="152388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4114800"/>
            <a:ext cx="4572000" cy="144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5867280"/>
            <a:ext cx="2209680" cy="180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4114800"/>
            <a:ext cx="1440" cy="175248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991720" y="4114800"/>
            <a:ext cx="1440" cy="266688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5867280"/>
            <a:ext cx="1440" cy="91440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6781680"/>
            <a:ext cx="2362320" cy="180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10160" y="4826160"/>
            <a:ext cx="18954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LogMeTT Pac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4495680"/>
            <a:ext cx="838080" cy="1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4648320"/>
            <a:ext cx="1440" cy="1143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34320" y="579132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518148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77320" y="4800600"/>
            <a:ext cx="1440" cy="152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4648320"/>
            <a:ext cx="45720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9960" y="101520"/>
            <a:ext cx="30610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 Packag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93640" y="612720"/>
            <a:ext cx="1396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cro Exec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4800600"/>
            <a:ext cx="396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ynamically loaded at Tera Term star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/>
  <dcterms:modified xsi:type="dcterms:W3CDTF">2015-11-30T16:22:49Z</dcterms:modified>
  <cp:revision>70</cp:revision>
  <dc:subject/>
  <dc:title>TeraTermモジュール構成</dc:title>
</cp:coreProperties>
</file>