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DFA-43D5-43FD-B395-86221228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BE9-A6E8-4F07-A59C-96B1931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BAC-DB36-4BE2-97CC-47B6C7FF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E05-9131-4A03-8754-CBEACEF8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451-DA4E-472A-9A7D-59796D3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2BB-ED44-4F0F-8876-17DF823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F7D-02B6-449E-9F34-6AE0A6F9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30D-8985-4232-970A-66E3C42D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C7A-5426-43B8-A35D-585D9742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53A-8F28-48E7-BABC-2ABBCD2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741-82A1-4031-B9CB-D6B8432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CCE-5D0B-4E0D-AF09-A7D06D2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6C66-A541-4E8B-9012-1234A74C8F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seudo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341360"/>
            <a:ext cx="1225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1341360"/>
            <a:ext cx="287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1557360"/>
            <a:ext cx="1081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2000" y="863640"/>
            <a:ext cx="1403280" cy="576360"/>
          </a:xfrm>
          <a:prstGeom prst="wedgeRoundRectCallout">
            <a:avLst>
              <a:gd name="adj1" fmla="val -45231"/>
              <a:gd name="adj2" fmla="val 706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pseudo-terminal in openpty(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2565360"/>
            <a:ext cx="669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49360"/>
            <a:ext cx="1800" cy="5904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l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357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16280"/>
            <a:ext cx="144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s as a child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450864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cap="sq"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00760" y="1484280"/>
            <a:ext cx="869760" cy="36036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1341360"/>
            <a:ext cx="79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8:07Z</dcterms:modified>
  <cp:revision>424</cp:revision>
  <dc:subject/>
  <dc:title>DDEのしくみ</dc:title>
</cp:coreProperties>
</file>