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4D7-91B3-460A-B8D9-85159B38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687-D083-417A-805D-4DE8FD60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538-8CBB-48F2-8163-E334F255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A34-2BA6-44EC-A06D-9D1876DF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BE2-9BBB-4B35-B0D6-225701FB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0E5-03A8-4052-8662-7CCA87F0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C67-23B0-4846-8FD4-115CBDCB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396-8A13-49E8-A762-D24799F8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059-32BE-4F98-800E-69773882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779-0FB6-4C05-A5DB-806A551B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76D-B5F6-482E-8601-BC5E685E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9F3-233A-4947-A6C6-4110D5B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D27A2-5C3C-4427-862A-DD607FE87DE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Packet Format(without compress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468360" y="1916280"/>
            <a:ext cx="2016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484360" y="1916280"/>
            <a:ext cx="1150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dding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3635280" y="1916280"/>
            <a:ext cx="289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ing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4319640" y="314172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cryption targ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3635280" y="2421000"/>
            <a:ext cx="3600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reeform 20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6084720" y="1413000"/>
            <a:ext cx="1151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Freeform 22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484360" y="1773360"/>
            <a:ext cx="1800" cy="2376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5"/>
          <p:cNvSpPr/>
          <p:nvPr/>
        </p:nvSpPr>
        <p:spPr>
          <a:xfrm>
            <a:off x="7236000" y="1773360"/>
            <a:ext cx="1440" cy="115092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8675640" y="1773360"/>
            <a:ext cx="1800" cy="2376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7236000" y="1916280"/>
            <a:ext cx="1439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3635280" y="1773360"/>
            <a:ext cx="1800" cy="647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4535640" y="4365720"/>
            <a:ext cx="14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mission targ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Once the packet construction and encryption has been completed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SSH2 packet is transmitted in 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finish_send_packet_special (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CP communication wit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d_packet_blocking (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2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ptional Fiel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Packet Format(with compress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8360" y="2997360"/>
            <a:ext cx="2016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2484360" y="2997360"/>
            <a:ext cx="1150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3635280" y="2997360"/>
            <a:ext cx="289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ing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6732720" y="2997360"/>
            <a:ext cx="1439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1476360" y="5373720"/>
            <a:ext cx="6192720" cy="1106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Payload compression happens before SSH2 packet is constructed and encryp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Packet is transmitted in 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finish_send_packet_special (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ase of compression payload size may incr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9"/>
          <p:cNvGrpSpPr/>
          <p:nvPr/>
        </p:nvGrpSpPr>
        <p:grpSpPr>
          <a:xfrm>
            <a:off x="2055960" y="1268280"/>
            <a:ext cx="1433520" cy="284400"/>
            <a:chOff x="2055960" y="1268280"/>
            <a:chExt cx="1433520" cy="284400"/>
          </a:xfrm>
        </p:grpSpPr>
        <p:sp>
          <p:nvSpPr>
            <p:cNvPr id="96" name="Rectangle 20"/>
            <p:cNvSpPr/>
            <p:nvPr/>
          </p:nvSpPr>
          <p:spPr>
            <a:xfrm>
              <a:off x="2055960" y="1268280"/>
              <a:ext cx="28404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21"/>
            <p:cNvSpPr/>
            <p:nvPr/>
          </p:nvSpPr>
          <p:spPr>
            <a:xfrm>
              <a:off x="2343240" y="1268280"/>
              <a:ext cx="28404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22"/>
            <p:cNvSpPr/>
            <p:nvPr/>
          </p:nvSpPr>
          <p:spPr>
            <a:xfrm>
              <a:off x="2630520" y="1268280"/>
              <a:ext cx="28404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917800" y="1268280"/>
              <a:ext cx="28404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24"/>
            <p:cNvSpPr/>
            <p:nvPr/>
          </p:nvSpPr>
          <p:spPr>
            <a:xfrm>
              <a:off x="3205080" y="1268280"/>
              <a:ext cx="28440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AutoShape 25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4500720" y="9079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 compr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7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ssed Paylo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28"/>
          <p:cNvSpPr/>
          <p:nvPr/>
        </p:nvSpPr>
        <p:spPr>
          <a:xfrm>
            <a:off x="3492360" y="836640"/>
            <a:ext cx="1800" cy="431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9"/>
          <p:cNvSpPr/>
          <p:nvPr/>
        </p:nvSpPr>
        <p:spPr>
          <a:xfrm flipH="1">
            <a:off x="5144760" y="836640"/>
            <a:ext cx="509400" cy="431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0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31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3924360" y="184464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ssed Paylo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34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35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36"/>
          <p:cNvSpPr/>
          <p:nvPr/>
        </p:nvSpPr>
        <p:spPr>
          <a:xfrm>
            <a:off x="2484360" y="2852640"/>
            <a:ext cx="1800" cy="1656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37"/>
          <p:cNvSpPr/>
          <p:nvPr/>
        </p:nvSpPr>
        <p:spPr>
          <a:xfrm>
            <a:off x="6732720" y="2852640"/>
            <a:ext cx="1440" cy="792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38"/>
          <p:cNvSpPr/>
          <p:nvPr/>
        </p:nvSpPr>
        <p:spPr>
          <a:xfrm>
            <a:off x="8172360" y="2852640"/>
            <a:ext cx="1800" cy="1656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9"/>
          <p:cNvSpPr/>
          <p:nvPr/>
        </p:nvSpPr>
        <p:spPr>
          <a:xfrm>
            <a:off x="3959280" y="378936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cryption targ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4356000" y="4653000"/>
            <a:ext cx="14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mission targ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cp:keywords/>
  <dc:language>en-US</dc:language>
  <cp:lastModifiedBy>maya negeta</cp:lastModifiedBy>
  <dcterms:modified xsi:type="dcterms:W3CDTF">2018-01-27T04:08:33Z</dcterms:modified>
  <cp:revision>307</cp:revision>
  <dc:subject/>
  <dc:title>DDEのしくみ</dc:title>
</cp:coreProperties>
</file>