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F1F-BCA9-46E9-9EE3-1A1A654B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77B-CC26-4442-8F21-C519E3D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DB6-ED42-4350-B276-8C666639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E21-A6E0-4C40-8849-6DC8867C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18A-A78F-41E3-B6CD-7D0C0BC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861-BE79-4200-89C3-C276946D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EE6-213B-44DE-9E33-FDC1180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E9B-2E2C-4E75-B2CF-D1FC842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24D-15E7-4F46-8F2B-F5C966F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C44-574A-4A23-A4A1-A624594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841-75A6-4DD2-B4AD-CB7A9AB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3CD-0D8F-457E-B3CC-7ACC6B5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DC694F-3C03-44BE-A9C4-E2201C6954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1440" cy="1728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280" y="5373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06560" y="537372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0840"/>
            <a:ext cx="1440" cy="291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99160" y="40402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2840" y="5869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6040" y="40402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6040" y="46497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6040" y="526104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9160" y="48783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040" y="586908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81168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0560" y="5564160"/>
            <a:ext cx="220968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0560" y="381168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2560" y="381168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0240" y="556416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240" y="6478560"/>
            <a:ext cx="236232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1000" y="452268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7960" y="41925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5160" y="434484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4878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5160" y="48783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8160" y="449748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7960" y="4344840"/>
            <a:ext cx="457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0-03T17:36:28Z</dcterms:modified>
  <cp:revision>66</cp:revision>
  <dc:subject/>
  <dc:title>TeraTermモジュール構成</dc:title>
</cp:coreProperties>
</file>