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537-C45E-4941-BC77-740B798A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D489-0378-4CB9-A950-A7D7E45B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7B6-3618-4084-AE35-318FB1D5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6B93-772A-4351-AD13-C2C6D943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CBEA-0FE6-49C1-95EE-AD447384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98E5-97DA-495D-9D3B-53199AAA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EC0-CEBF-4794-83AE-9C24FE11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A9B2-E194-43F9-A1D7-F2CC94EC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3A28-9662-4FD2-971F-5C84C754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89A4-6EA8-452F-81C0-B056D91E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5FF7-1B30-4233-AD26-C602FADB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D4A-B405-4877-82BA-9670C3D6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0F912-89D0-41C9-B57B-CB959AEB99AF}" type="slidenum">
              <a:rPr b="0" lang="ja-JP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 Libr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352600" y="1089000"/>
            <a:ext cx="1444680" cy="45396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376880" y="1089000"/>
            <a:ext cx="1296720" cy="45396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3800520" y="1317600"/>
            <a:ext cx="5763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124000" y="936720"/>
            <a:ext cx="5100840" cy="1368360"/>
          </a:xfrm>
          <a:prstGeom prst="rect">
            <a:avLst/>
          </a:prstGeom>
          <a:noFill/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2201760" y="1641600"/>
            <a:ext cx="174960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libri"/>
              </a:rPr>
              <a:t>Tera Term 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5724360" y="1052640"/>
            <a:ext cx="144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ular Expressions Libr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352600" y="2841480"/>
            <a:ext cx="1444680" cy="45432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376880" y="2835360"/>
            <a:ext cx="1296720" cy="45396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3797280" y="308772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2124000" y="2556000"/>
            <a:ext cx="5100840" cy="1501560"/>
          </a:xfrm>
          <a:prstGeom prst="rect">
            <a:avLst/>
          </a:prstGeom>
          <a:noFill/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2201760" y="3394080"/>
            <a:ext cx="17496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libri"/>
              </a:rPr>
              <a:t>Macro 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5724360" y="2805120"/>
            <a:ext cx="144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ular Expressions Libr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" name="グループ化 1"/>
          <p:cNvGrpSpPr/>
          <p:nvPr/>
        </p:nvGrpSpPr>
        <p:grpSpPr>
          <a:xfrm>
            <a:off x="2095560" y="4441680"/>
            <a:ext cx="5102280" cy="1901880"/>
            <a:chOff x="2095560" y="4441680"/>
            <a:chExt cx="5102280" cy="1901880"/>
          </a:xfrm>
        </p:grpSpPr>
        <p:sp>
          <p:nvSpPr>
            <p:cNvPr id="61" name="Rectangle 17"/>
            <p:cNvSpPr/>
            <p:nvPr/>
          </p:nvSpPr>
          <p:spPr>
            <a:xfrm>
              <a:off x="2324160" y="4593960"/>
              <a:ext cx="1444680" cy="453960"/>
            </a:xfrm>
            <a:prstGeom prst="rect">
              <a:avLst/>
            </a:prstGeom>
            <a:solidFill>
              <a:srgbClr val="c6d9f1"/>
            </a:solidFill>
            <a:ln w="324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txssh.dl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8"/>
            <p:cNvSpPr/>
            <p:nvPr/>
          </p:nvSpPr>
          <p:spPr>
            <a:xfrm>
              <a:off x="4381560" y="4593960"/>
              <a:ext cx="1292040" cy="453960"/>
            </a:xfrm>
            <a:prstGeom prst="rect">
              <a:avLst/>
            </a:prstGeom>
            <a:noFill/>
            <a:ln w="324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penSS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9"/>
            <p:cNvSpPr/>
            <p:nvPr/>
          </p:nvSpPr>
          <p:spPr>
            <a:xfrm>
              <a:off x="4381560" y="5127480"/>
              <a:ext cx="1292040" cy="453960"/>
            </a:xfrm>
            <a:prstGeom prst="rect">
              <a:avLst/>
            </a:prstGeom>
            <a:noFill/>
            <a:ln w="324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li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20"/>
            <p:cNvSpPr/>
            <p:nvPr/>
          </p:nvSpPr>
          <p:spPr>
            <a:xfrm>
              <a:off x="4381560" y="5661000"/>
              <a:ext cx="1292040" cy="453960"/>
            </a:xfrm>
            <a:prstGeom prst="rect">
              <a:avLst/>
            </a:prstGeom>
            <a:noFill/>
            <a:ln w="324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uT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1"/>
            <p:cNvSpPr/>
            <p:nvPr/>
          </p:nvSpPr>
          <p:spPr>
            <a:xfrm>
              <a:off x="3770280" y="4822560"/>
              <a:ext cx="60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22"/>
            <p:cNvSpPr/>
            <p:nvPr/>
          </p:nvSpPr>
          <p:spPr>
            <a:xfrm flipH="1">
              <a:off x="4071600" y="5354640"/>
              <a:ext cx="30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23"/>
            <p:cNvSpPr/>
            <p:nvPr/>
          </p:nvSpPr>
          <p:spPr>
            <a:xfrm flipH="1">
              <a:off x="4071600" y="5889600"/>
              <a:ext cx="30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24"/>
            <p:cNvSpPr/>
            <p:nvPr/>
          </p:nvSpPr>
          <p:spPr>
            <a:xfrm>
              <a:off x="4076640" y="4822560"/>
              <a:ext cx="0" cy="10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25"/>
            <p:cNvSpPr/>
            <p:nvPr/>
          </p:nvSpPr>
          <p:spPr>
            <a:xfrm>
              <a:off x="2095560" y="4441680"/>
              <a:ext cx="5102280" cy="1901880"/>
            </a:xfrm>
            <a:prstGeom prst="rect">
              <a:avLst/>
            </a:prstGeom>
            <a:noFill/>
            <a:ln w="3240">
              <a:solidFill>
                <a:srgbClr val="3a5f8b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6"/>
            <p:cNvSpPr/>
            <p:nvPr/>
          </p:nvSpPr>
          <p:spPr>
            <a:xfrm>
              <a:off x="2324160" y="5127480"/>
              <a:ext cx="14446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Calibri"/>
                </a:rPr>
                <a:t>SSH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70c0"/>
                  </a:solidFill>
                  <a:latin typeface="Calibri"/>
                </a:rPr>
                <a:t>Modu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7"/>
            <p:cNvSpPr/>
            <p:nvPr/>
          </p:nvSpPr>
          <p:spPr>
            <a:xfrm>
              <a:off x="5677200" y="4589280"/>
              <a:ext cx="129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ryptographic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ibr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8"/>
            <p:cNvSpPr/>
            <p:nvPr/>
          </p:nvSpPr>
          <p:spPr>
            <a:xfrm>
              <a:off x="5677200" y="5122800"/>
              <a:ext cx="129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ompression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ibr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29"/>
            <p:cNvSpPr/>
            <p:nvPr/>
          </p:nvSpPr>
          <p:spPr>
            <a:xfrm>
              <a:off x="5677200" y="5661000"/>
              <a:ext cx="14446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ageant Interaction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ibr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Rectangle 11"/>
          <p:cNvSpPr/>
          <p:nvPr/>
        </p:nvSpPr>
        <p:spPr>
          <a:xfrm>
            <a:off x="4376880" y="3435480"/>
            <a:ext cx="1296720" cy="45396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M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23"/>
          <p:cNvSpPr/>
          <p:nvPr/>
        </p:nvSpPr>
        <p:spPr>
          <a:xfrm flipH="1">
            <a:off x="3951360" y="3670200"/>
            <a:ext cx="4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4"/>
          <p:cNvSpPr/>
          <p:nvPr/>
        </p:nvSpPr>
        <p:spPr>
          <a:xfrm>
            <a:off x="3951360" y="3087720"/>
            <a:ext cx="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5724360" y="3400560"/>
            <a:ext cx="144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eudorandom number gener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cp:keywords/>
  <dc:language>en-US</dc:language>
  <cp:lastModifiedBy>maya negeta</cp:lastModifiedBy>
  <dcterms:modified xsi:type="dcterms:W3CDTF">2017-06-01T12:00:48Z</dcterms:modified>
  <cp:revision>89</cp:revision>
  <dc:subject/>
  <dc:title>TeraTermモジュール構成</dc:title>
</cp:coreProperties>
</file>