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5040" cy="124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2BBDB-24DC-4ECF-9794-30BD8B1BC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9D7EE-D17A-4A25-A708-71D1F6664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465D6-5383-406A-A2EE-2CF962CC0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D0FD0-7132-4F75-837D-E3009438A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DDAFB-14FA-482E-BD17-4AE709E9F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3D6DF-4C2C-41A2-B46F-66EA88115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974DF-D146-4195-B14D-27385FCEE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5E6B3-C623-4AB4-A58D-72F88979B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65F81-87A8-44D5-87D8-2A95385DB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3CB27-8F24-4AE7-A0DE-A8081B96C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661AE-FF32-4293-9085-D66F95F35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7F06D-B6E2-42C3-9D5D-1A654F5F0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0F4673-AA14-4419-89D0-E2279BEFFC27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DE Buffer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68360" y="549360"/>
            <a:ext cx="107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200" spc="-1" strike="noStrike" u="sng">
                <a:solidFill>
                  <a:srgbClr val="000000"/>
                </a:solidFill>
                <a:uFillTx/>
                <a:latin typeface="Arial"/>
              </a:rPr>
              <a:t>TComVar c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19280" y="1052640"/>
            <a:ext cx="1512720" cy="144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132000" y="1052640"/>
            <a:ext cx="2160720" cy="187164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250920" y="907920"/>
            <a:ext cx="1363680" cy="2013120"/>
            <a:chOff x="250920" y="907920"/>
            <a:chExt cx="1363680" cy="2013120"/>
          </a:xfrm>
        </p:grpSpPr>
        <p:sp>
          <p:nvSpPr>
            <p:cNvPr id="51" name=""/>
            <p:cNvSpPr/>
            <p:nvPr/>
          </p:nvSpPr>
          <p:spPr>
            <a:xfrm>
              <a:off x="250920" y="907920"/>
              <a:ext cx="1363680" cy="28440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HLogBuf  point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0920" y="1197000"/>
              <a:ext cx="1363680" cy="28404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LogBuf  point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0920" y="1484280"/>
              <a:ext cx="1363680" cy="28404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LogPt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50920" y="1773360"/>
              <a:ext cx="1363680" cy="28404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St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50920" y="2060640"/>
              <a:ext cx="1363680" cy="28404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Cou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50920" y="2349360"/>
              <a:ext cx="1363680" cy="28440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St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50920" y="2637000"/>
              <a:ext cx="1363680" cy="28404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Cou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"/>
          <p:cNvSpPr/>
          <p:nvPr/>
        </p:nvSpPr>
        <p:spPr>
          <a:xfrm flipV="1">
            <a:off x="1619280" y="1047240"/>
            <a:ext cx="1512720" cy="29844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203640" y="3068640"/>
            <a:ext cx="20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E Buffer (not ful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127320" y="1047600"/>
            <a:ext cx="2170080" cy="13068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619280" y="1628640"/>
            <a:ext cx="1512720" cy="72072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435640" y="1052640"/>
            <a:ext cx="1440" cy="1871640"/>
          </a:xfrm>
          <a:prstGeom prst="line">
            <a:avLst/>
          </a:prstGeom>
          <a:ln cap="sq"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03640" y="765000"/>
            <a:ext cx="115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InBuffSize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1619280" y="1839960"/>
            <a:ext cx="1657440" cy="94608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1619280" y="1047240"/>
            <a:ext cx="1512720" cy="145116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763640" y="4221000"/>
            <a:ext cx="1513080" cy="180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395280" y="4076640"/>
            <a:ext cx="1363680" cy="2013120"/>
            <a:chOff x="395280" y="4076640"/>
            <a:chExt cx="1363680" cy="2013120"/>
          </a:xfrm>
        </p:grpSpPr>
        <p:sp>
          <p:nvSpPr>
            <p:cNvPr id="68" name=""/>
            <p:cNvSpPr/>
            <p:nvPr/>
          </p:nvSpPr>
          <p:spPr>
            <a:xfrm>
              <a:off x="395280" y="4076640"/>
              <a:ext cx="1363680" cy="28440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HLogBuf  point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95280" y="4365720"/>
              <a:ext cx="1363680" cy="28404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LogBuf  point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95280" y="4653000"/>
              <a:ext cx="1363680" cy="28404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LogPt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95280" y="4941720"/>
              <a:ext cx="1363680" cy="28440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St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95280" y="5229360"/>
              <a:ext cx="1363680" cy="28404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Cou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95280" y="5518080"/>
              <a:ext cx="1363680" cy="28440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St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95280" y="5805360"/>
              <a:ext cx="1363680" cy="28440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Cou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" name=""/>
          <p:cNvSpPr/>
          <p:nvPr/>
        </p:nvSpPr>
        <p:spPr>
          <a:xfrm flipV="1">
            <a:off x="1763640" y="4215960"/>
            <a:ext cx="1513080" cy="29844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348000" y="6237360"/>
            <a:ext cx="226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E Buffer (ful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3271680" y="4216320"/>
            <a:ext cx="2170440" cy="188136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1763640" y="4797360"/>
            <a:ext cx="1513080" cy="72072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580000" y="4221000"/>
            <a:ext cx="1800" cy="1872000"/>
          </a:xfrm>
          <a:prstGeom prst="line">
            <a:avLst/>
          </a:prstGeom>
          <a:ln cap="sq"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003640" y="3933720"/>
            <a:ext cx="115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InBuffSize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763640" y="5008680"/>
            <a:ext cx="1657440" cy="94608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1763640" y="5511960"/>
            <a:ext cx="1513080" cy="15552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276720" y="5516640"/>
            <a:ext cx="2158920" cy="144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32000" y="2205000"/>
            <a:ext cx="2160720" cy="144360"/>
          </a:xfrm>
          <a:prstGeom prst="rect">
            <a:avLst/>
          </a:prstGeom>
          <a:gradFill rotWithShape="0">
            <a:gsLst>
              <a:gs pos="0">
                <a:srgbClr val="8ae234"/>
              </a:gs>
              <a:gs pos="100000">
                <a:srgbClr val="4e9a06"/>
              </a:gs>
            </a:gsLst>
            <a:lin ang="3600000"/>
          </a:gra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Newest 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276720" y="1052640"/>
            <a:ext cx="1440" cy="1296720"/>
          </a:xfrm>
          <a:prstGeom prst="line">
            <a:avLst/>
          </a:prstGeom>
          <a:ln cap="sq"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76720" y="5373720"/>
            <a:ext cx="2160360" cy="144360"/>
          </a:xfrm>
          <a:prstGeom prst="rect">
            <a:avLst/>
          </a:prstGeom>
          <a:gradFill rotWithShape="0">
            <a:gsLst>
              <a:gs pos="0">
                <a:srgbClr val="8ae234"/>
              </a:gs>
              <a:gs pos="100000">
                <a:srgbClr val="4e9a06"/>
              </a:gs>
            </a:gsLst>
            <a:lin ang="3600000"/>
          </a:gra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Newest 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421080" y="4221000"/>
            <a:ext cx="1440" cy="1872000"/>
          </a:xfrm>
          <a:prstGeom prst="line">
            <a:avLst/>
          </a:prstGeom>
          <a:ln cap="sq"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012000" y="1052640"/>
            <a:ext cx="215640" cy="1296720"/>
          </a:xfrm>
          <a:prstGeom prst="downArrow">
            <a:avLst>
              <a:gd name="adj1" fmla="val 50000"/>
              <a:gd name="adj2" fmla="val 150334"/>
            </a:avLst>
          </a:prstGeom>
          <a:solidFill>
            <a:srgbClr val="0000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156360" y="1484280"/>
            <a:ext cx="1079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and Time Flo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940360" y="5560920"/>
            <a:ext cx="216000" cy="604800"/>
          </a:xfrm>
          <a:prstGeom prst="downArrow">
            <a:avLst>
              <a:gd name="adj1" fmla="val 50000"/>
              <a:gd name="adj2" fmla="val 70000"/>
            </a:avLst>
          </a:prstGeom>
          <a:solidFill>
            <a:srgbClr val="0000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156360" y="5734080"/>
            <a:ext cx="1079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and Time Flo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84720" y="6165720"/>
            <a:ext cx="1800" cy="287640"/>
          </a:xfrm>
          <a:prstGeom prst="line">
            <a:avLst/>
          </a:prstGeom>
          <a:ln cap="sq" w="9360">
            <a:solidFill>
              <a:srgbClr val="000000"/>
            </a:solidFill>
            <a:custDash>
              <a:ds d="100000" sp="1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84720" y="6453360"/>
            <a:ext cx="1224000" cy="1440"/>
          </a:xfrm>
          <a:prstGeom prst="line">
            <a:avLst/>
          </a:prstGeom>
          <a:ln cap="sq" w="9360">
            <a:solidFill>
              <a:srgbClr val="000000"/>
            </a:solidFill>
            <a:custDash>
              <a:ds d="100000" sp="1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7308720" y="3928680"/>
            <a:ext cx="1800" cy="2529000"/>
          </a:xfrm>
          <a:prstGeom prst="line">
            <a:avLst/>
          </a:prstGeom>
          <a:ln cap="sq" w="9360">
            <a:solidFill>
              <a:srgbClr val="000000"/>
            </a:solidFill>
            <a:custDash>
              <a:ds d="100000" sp="1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6006960" y="3933720"/>
            <a:ext cx="1306800" cy="1800"/>
          </a:xfrm>
          <a:prstGeom prst="line">
            <a:avLst/>
          </a:prstGeom>
          <a:ln cap="sq" w="9360">
            <a:solidFill>
              <a:srgbClr val="000000"/>
            </a:solidFill>
            <a:custDash>
              <a:ds d="100000" sp="1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012000" y="3933720"/>
            <a:ext cx="1440" cy="1582920"/>
          </a:xfrm>
          <a:prstGeom prst="line">
            <a:avLst/>
          </a:prstGeom>
          <a:ln cap="sq" w="9360">
            <a:solidFill>
              <a:srgbClr val="000000"/>
            </a:solidFill>
            <a:custDash>
              <a:ds d="100000" sp="100000"/>
            </a:custDash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335640" y="1871640"/>
            <a:ext cx="2700360" cy="1871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cap="sq" w="9360">
            <a:solidFill>
              <a:srgbClr val="00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- DDE buffer is a ring buffer, if the buffer i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full, the oldest data is overwritte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- Log buffer and DDE buffer are the sam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Count contains the size of valid data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ytes beginning from DStar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 If logs are collected and macro runs at th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ame time, LStart and DStart, LCount 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Count will contain the equal valu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851280" y="2484360"/>
            <a:ext cx="792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mp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/>
  <dcterms:modified xsi:type="dcterms:W3CDTF">2015-11-29T15:45:03Z</dcterms:modified>
  <cp:revision>138</cp:revision>
  <dc:subject/>
  <dc:title>DDEのしくみ</dc:title>
</cp:coreProperties>
</file>