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8C9-2731-4C41-AB4D-45D3A7E6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719-4602-46E5-9862-C87FDCCE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A68-E7B9-47D3-B200-8D94A0F4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1E4-9B1F-4287-B0E2-B8368EFE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5A1-FAA7-464F-9C61-97941C6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351-EFC8-4FE8-8409-59783386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911-4C44-4343-80EF-BE6278E4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6B8-4737-42A2-BC03-AEC3A89B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F3A-59E5-42A4-AE08-E46BBF4B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DE1-A14C-4984-AEA3-FC51C81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EFD-1320-4615-9EFE-17A93AC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FD4-ACCB-4D79-9891-019A303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C9B34-B0F5-402D-AFC4-E7FC528D8D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 SSH2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341360"/>
            <a:ext cx="835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49360"/>
            <a:ext cx="230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549360"/>
            <a:ext cx="18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981000"/>
            <a:ext cx="935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1773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125360"/>
            <a:ext cx="180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len = READAMOUNT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6237360"/>
            <a:ext cx="4537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5445000"/>
            <a:ext cx="3240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by the recv(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530064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5300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3933720"/>
            <a:ext cx="201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3933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4149720"/>
            <a:ext cx="86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724280"/>
            <a:ext cx="20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637000"/>
            <a:ext cx="647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2637000"/>
            <a:ext cx="2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27320" y="2060640"/>
            <a:ext cx="180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sing one SSH2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turning plain data passed in SSH2_MSG_CHANNEL_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39:10Z</dcterms:modified>
  <cp:revision>351</cp:revision>
  <dc:subject/>
  <dc:title>DDEのしくみ</dc:title>
</cp:coreProperties>
</file>