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CE6B-A190-4A71-B663-51EB4DF6D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9D32-E4E6-422F-B266-34F05B5D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F05F-A733-4D48-BFAF-AD9E9FD8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9F1F-93A5-4FBC-809D-0A418696B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B4E0-62DF-43FF-8034-06734178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EA98-0498-4074-9384-A4B2CD00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8804-D612-4FC4-AD25-EB043601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8464-121C-4FDC-A235-4DD7E2A3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A9B9-B0BA-4699-A3E2-407BBC29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DA2C-EA3B-4494-91E1-B54931C3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2A39-84A8-4C83-AD16-151F2548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FB02-F671-45CF-BF58-B6FEBE70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45062-28A6-4A5B-A838-15EEBBD5473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 Fowar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35280" y="1557360"/>
            <a:ext cx="1800" cy="12952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3716280"/>
            <a:ext cx="1800" cy="12952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6360" y="1557360"/>
            <a:ext cx="1800" cy="129528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16360" y="3716280"/>
            <a:ext cx="1800" cy="129528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handle_SSH2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buffered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0800000">
            <a:off x="2340000" y="429552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write_local_connection_buffer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/>
  <dcterms:modified xsi:type="dcterms:W3CDTF">2015-11-30T16:29:23Z</dcterms:modified>
  <cp:revision>359</cp:revision>
  <dc:subject/>
  <dc:title>DDEのしくみ</dc:title>
</cp:coreProperties>
</file>