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42B-4571-4EB6-B9A9-3CD21BA4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972-FC75-49B2-BCE2-76BECC71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A5E-33DC-455A-8F85-6AB96C3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114-30CD-4146-9300-66855F52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DB2-2B48-4A6C-85A7-7981853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88B-90CB-456B-9C68-2DDCA71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E31-160F-4AEF-BC6C-BAB82045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D9F-70D8-4268-8545-5DBA46EC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129-AE43-4A3A-8058-02986FC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B3B-EC77-4EAF-9EFE-CCA69A2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F98-2ACE-46C4-9810-AE1449ED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3E0-5393-4C35-800C-3D64DE4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9EE92-B4AE-4149-91B1-7D58946F73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6080" y="1374840"/>
            <a:ext cx="1828800" cy="39621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6680" y="1374840"/>
            <a:ext cx="1752480" cy="403848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6080" y="2670120"/>
            <a:ext cx="1828800" cy="1600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4880" y="194328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 to DDE Server (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63840" y="307800"/>
            <a:ext cx="2309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>
            <a:off x="3044520" y="1755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>
            <a:off x="3044160" y="2212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>
            <a:off x="3044160" y="2669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>
            <a:off x="3044160" y="31269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>
            <a:off x="3044520" y="35841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>
            <a:off x="3044160" y="4041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H="1">
            <a:off x="3044160" y="4498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3044520" y="4955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53960" y="2822400"/>
            <a:ext cx="609840" cy="685800"/>
          </a:xfrm>
          <a:custGeom>
            <a:avLst/>
            <a:gdLst/>
            <a:ahLst/>
            <a:rect l="l" t="t" r="r" b="b"/>
            <a:pathLst>
              <a:path stroke="0" w="110478853" h="110482942">
                <a:moveTo>
                  <a:pt x="0" y="-750"/>
                </a:move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close/>
              </a:path>
              <a:path stroke="0" w="110478853" h="110482942">
                <a:moveTo>
                  <a:pt x="1693" y="-750"/>
                </a:moveTo>
                <a:lnTo>
                  <a:pt x="2" y="0"/>
                </a:lnTo>
                <a:lnTo>
                  <a:pt x="1693" y="4086"/>
                </a:lnTo>
                <a:close/>
                <a:lnTo>
                  <a:pt x="1693" y="-750"/>
                </a:lnTo>
              </a:path>
              <a:path w="110478853" h="110482942">
                <a:moveTo>
                  <a:pt x="270" y="-110478846"/>
                </a:moveTo>
                <a:lnTo>
                  <a:pt x="1693" y="-750"/>
                </a:lnTo>
                <a:lnTo>
                  <a:pt x="110478853" y="-110478856"/>
                </a:lnTo>
                <a:lnTo>
                  <a:pt x="0" y="-750"/>
                </a:ln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lnTo>
                  <a:pt x="1693" y="-750"/>
                </a:lnTo>
              </a:path>
            </a:pathLst>
          </a:custGeom>
          <a:solidFill>
            <a:srgbClr val="4f81bd"/>
          </a:solidFill>
          <a:ln w="1908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4880" y="4676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4880" y="2847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ADV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4880" y="33051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 Data (ADV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37623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P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4880" y="42195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2390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Request (EXECU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0800000">
            <a:off x="6245280" y="3130920"/>
            <a:ext cx="1371600" cy="652680"/>
          </a:xfrm>
          <a:custGeom>
            <a:avLst/>
            <a:gdLst/>
            <a:ahLst/>
            <a:rect l="l" t="t" r="r" b="b"/>
            <a:pathLst>
              <a:path w="11023" h="3756">
                <a:moveTo>
                  <a:pt x="0" y="-972"/>
                </a:moveTo>
                <a:lnTo>
                  <a:pt x="-972" y="-972"/>
                </a:lnTo>
                <a:lnTo>
                  <a:pt x="180" y="90"/>
                </a:lnTo>
                <a:lnTo>
                  <a:pt x="2223" y="0"/>
                </a:lnTo>
                <a:lnTo>
                  <a:pt x="2223" y="0"/>
                </a:lnTo>
                <a:lnTo>
                  <a:pt x="3175" y="0"/>
                </a:lnTo>
                <a:lnTo>
                  <a:pt x="4782" y="0"/>
                </a:lnTo>
                <a:lnTo>
                  <a:pt x="-972" y="-972"/>
                </a:lnTo>
                <a:lnTo>
                  <a:pt x="270" y="90"/>
                </a:lnTo>
                <a:lnTo>
                  <a:pt x="3810" y="302"/>
                </a:lnTo>
                <a:lnTo>
                  <a:pt x="10051" y="-270"/>
                </a:lnTo>
                <a:lnTo>
                  <a:pt x="3810" y="755"/>
                </a:lnTo>
                <a:lnTo>
                  <a:pt x="3810" y="2784"/>
                </a:lnTo>
                <a:lnTo>
                  <a:pt x="-972" y="-972"/>
                </a:lnTo>
                <a:lnTo>
                  <a:pt x="1" y="90"/>
                </a:lnTo>
                <a:lnTo>
                  <a:pt x="3175" y="1812"/>
                </a:lnTo>
                <a:lnTo>
                  <a:pt x="2223" y="1812"/>
                </a:lnTo>
                <a:lnTo>
                  <a:pt x="2223" y="1812"/>
                </a:lnTo>
                <a:lnTo>
                  <a:pt x="-972" y="1812"/>
                </a:lnTo>
                <a:lnTo>
                  <a:pt x="-972" y="-972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2746440"/>
            <a:ext cx="1054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vis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9400" y="3544200"/>
            <a:ext cx="985680" cy="452520"/>
            <a:chOff x="149400" y="3544200"/>
            <a:chExt cx="985680" cy="452520"/>
          </a:xfrm>
        </p:grpSpPr>
        <p:sp>
          <p:nvSpPr>
            <p:cNvPr id="69" name=""/>
            <p:cNvSpPr/>
            <p:nvPr/>
          </p:nvSpPr>
          <p:spPr>
            <a:xfrm flipH="1" flipV="1" rot="10800000">
              <a:off x="149400" y="3543840"/>
              <a:ext cx="985680" cy="452520"/>
            </a:xfrm>
            <a:custGeom>
              <a:avLst/>
              <a:gdLst/>
              <a:ahLst/>
              <a:rect l="l" t="t" r="r" b="b"/>
              <a:pathLst>
                <a:path w="4114" h="4848">
                  <a:moveTo>
                    <a:pt x="0" y="-681"/>
                  </a:moveTo>
                  <a:lnTo>
                    <a:pt x="-681" y="-681"/>
                  </a:lnTo>
                  <a:lnTo>
                    <a:pt x="180" y="90"/>
                  </a:lnTo>
                  <a:lnTo>
                    <a:pt x="1605" y="0"/>
                  </a:lnTo>
                  <a:lnTo>
                    <a:pt x="1605" y="0"/>
                  </a:lnTo>
                  <a:lnTo>
                    <a:pt x="2293" y="0"/>
                  </a:lnTo>
                  <a:lnTo>
                    <a:pt x="3433" y="0"/>
                  </a:lnTo>
                  <a:lnTo>
                    <a:pt x="-681" y="-681"/>
                  </a:lnTo>
                  <a:lnTo>
                    <a:pt x="270" y="90"/>
                  </a:lnTo>
                  <a:lnTo>
                    <a:pt x="2752" y="741"/>
                  </a:lnTo>
                  <a:lnTo>
                    <a:pt x="2752" y="741"/>
                  </a:lnTo>
                  <a:lnTo>
                    <a:pt x="2752" y="1058"/>
                  </a:lnTo>
                  <a:lnTo>
                    <a:pt x="2752" y="1951"/>
                  </a:lnTo>
                  <a:lnTo>
                    <a:pt x="-681" y="-681"/>
                  </a:lnTo>
                  <a:lnTo>
                    <a:pt x="1" y="90"/>
                  </a:lnTo>
                  <a:lnTo>
                    <a:pt x="2293" y="1270"/>
                  </a:lnTo>
                  <a:lnTo>
                    <a:pt x="1814" y="4167"/>
                  </a:lnTo>
                  <a:lnTo>
                    <a:pt x="1605" y="1270"/>
                  </a:lnTo>
                  <a:lnTo>
                    <a:pt x="-681" y="1270"/>
                  </a:lnTo>
                  <a:lnTo>
                    <a:pt x="-681" y="-681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960" y="3619440"/>
              <a:ext cx="79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V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16080" y="1069920"/>
            <a:ext cx="1828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WND HVT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 rot="10800000">
            <a:off x="3121200" y="914760"/>
            <a:ext cx="1752480" cy="304920"/>
          </a:xfrm>
          <a:custGeom>
            <a:avLst/>
            <a:gdLst/>
            <a:ahLst/>
            <a:rect l="l" t="t" r="r" b="b"/>
            <a:pathLst>
              <a:path w="5776" h="2211">
                <a:moveTo>
                  <a:pt x="0" y="-454"/>
                </a:moveTo>
                <a:lnTo>
                  <a:pt x="-454" y="-454"/>
                </a:lnTo>
                <a:lnTo>
                  <a:pt x="180" y="90"/>
                </a:lnTo>
                <a:lnTo>
                  <a:pt x="2840" y="0"/>
                </a:lnTo>
                <a:lnTo>
                  <a:pt x="2840" y="0"/>
                </a:lnTo>
                <a:lnTo>
                  <a:pt x="4057" y="0"/>
                </a:lnTo>
                <a:lnTo>
                  <a:pt x="5322" y="0"/>
                </a:lnTo>
                <a:lnTo>
                  <a:pt x="-454" y="-454"/>
                </a:lnTo>
                <a:lnTo>
                  <a:pt x="270" y="90"/>
                </a:lnTo>
                <a:lnTo>
                  <a:pt x="4868" y="494"/>
                </a:lnTo>
                <a:lnTo>
                  <a:pt x="4868" y="494"/>
                </a:lnTo>
                <a:lnTo>
                  <a:pt x="4868" y="706"/>
                </a:lnTo>
                <a:lnTo>
                  <a:pt x="4868" y="1301"/>
                </a:lnTo>
                <a:lnTo>
                  <a:pt x="-454" y="-454"/>
                </a:lnTo>
                <a:lnTo>
                  <a:pt x="1" y="90"/>
                </a:lnTo>
                <a:lnTo>
                  <a:pt x="4057" y="847"/>
                </a:lnTo>
                <a:lnTo>
                  <a:pt x="4264" y="1757"/>
                </a:lnTo>
                <a:lnTo>
                  <a:pt x="2840" y="847"/>
                </a:lnTo>
                <a:lnTo>
                  <a:pt x="-454" y="847"/>
                </a:lnTo>
                <a:lnTo>
                  <a:pt x="-454" y="-454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240" y="914400"/>
            <a:ext cx="1837440" cy="303480"/>
          </a:xfrm>
          <a:prstGeom prst="rect">
            <a:avLst/>
          </a:prstGeom>
          <a:noFill/>
          <a:ln w="9360">
            <a:solidFill>
              <a:srgbClr val="3465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ng topic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4880" y="1488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up: TTPMACRO /D=000208D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V="1">
            <a:off x="2739600" y="1066680"/>
            <a:ext cx="384840" cy="155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>
            <a:off x="4873680" y="1222200"/>
            <a:ext cx="381600" cy="308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77" name=""/>
          <p:cNvGrpSpPr/>
          <p:nvPr/>
        </p:nvGrpSpPr>
        <p:grpSpPr>
          <a:xfrm>
            <a:off x="1903320" y="5595120"/>
            <a:ext cx="5222880" cy="990360"/>
            <a:chOff x="1903320" y="5595120"/>
            <a:chExt cx="5222880" cy="990360"/>
          </a:xfrm>
        </p:grpSpPr>
        <p:sp>
          <p:nvSpPr>
            <p:cNvPr id="78" name=""/>
            <p:cNvSpPr/>
            <p:nvPr/>
          </p:nvSpPr>
          <p:spPr>
            <a:xfrm flipH="1" flipV="1" rot="10800000">
              <a:off x="1903320" y="5594760"/>
              <a:ext cx="5222880" cy="990360"/>
            </a:xfrm>
            <a:custGeom>
              <a:avLst/>
              <a:gdLst/>
              <a:ahLst/>
              <a:rect l="l" t="t" r="r" b="b"/>
              <a:pathLst>
                <a:path w="16059" h="6630">
                  <a:moveTo>
                    <a:pt x="0" y="-1362"/>
                  </a:moveTo>
                  <a:lnTo>
                    <a:pt x="-1362" y="-1362"/>
                  </a:lnTo>
                  <a:lnTo>
                    <a:pt x="180" y="90"/>
                  </a:lnTo>
                  <a:lnTo>
                    <a:pt x="7779" y="0"/>
                  </a:lnTo>
                  <a:lnTo>
                    <a:pt x="7779" y="0"/>
                  </a:lnTo>
                  <a:lnTo>
                    <a:pt x="11113" y="0"/>
                  </a:lnTo>
                  <a:lnTo>
                    <a:pt x="14697" y="0"/>
                  </a:lnTo>
                  <a:lnTo>
                    <a:pt x="-1362" y="-1362"/>
                  </a:lnTo>
                  <a:lnTo>
                    <a:pt x="270" y="90"/>
                  </a:lnTo>
                  <a:lnTo>
                    <a:pt x="13335" y="1482"/>
                  </a:lnTo>
                  <a:lnTo>
                    <a:pt x="13335" y="1482"/>
                  </a:lnTo>
                  <a:lnTo>
                    <a:pt x="13335" y="2117"/>
                  </a:lnTo>
                  <a:lnTo>
                    <a:pt x="13335" y="3902"/>
                  </a:lnTo>
                  <a:lnTo>
                    <a:pt x="-1362" y="-1362"/>
                  </a:lnTo>
                  <a:lnTo>
                    <a:pt x="1" y="90"/>
                  </a:lnTo>
                  <a:lnTo>
                    <a:pt x="11113" y="2540"/>
                  </a:lnTo>
                  <a:lnTo>
                    <a:pt x="11680" y="5268"/>
                  </a:lnTo>
                  <a:lnTo>
                    <a:pt x="7779" y="2540"/>
                  </a:lnTo>
                  <a:lnTo>
                    <a:pt x="-1362" y="2540"/>
                  </a:lnTo>
                  <a:lnTo>
                    <a:pt x="-1362" y="-1362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86120" y="5697360"/>
              <a:ext cx="50576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D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used in peer-to-peer client-server communication mo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ssion identification is combination of service name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RATER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”  and a topic name, which can be any str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16000" y="2808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8720" y="3130560"/>
            <a:ext cx="1208160" cy="901800"/>
          </a:xfrm>
          <a:prstGeom prst="wedgeRoundRectCallout">
            <a:avLst>
              <a:gd name="adj1" fmla="val -73009"/>
              <a:gd name="adj2" fmla="val -64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ing d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06:43:08Z</dcterms:modified>
  <cp:revision>55</cp:revision>
  <dc:subject/>
  <dc:title>DDEのしくみ</dc:title>
</cp:coreProperties>
</file>